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46C-5F3A-4B26-8CEB-FA53FA27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6F8-E898-40CF-9FA3-B6D04D79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8FE-FFC0-4163-A22C-3ED78D79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31C-EF84-48A0-9CB0-04CF3920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693B0-A5F7-4EC4-99A9-A46900D5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639F0-DBA7-4889-BD91-AE853C45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CF07C-472E-47FA-83A9-5AA14A62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922A7-F9CC-4435-8BE6-461D246E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BD3E7-69C8-4F2C-868D-46EA5F2C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08FF4-215C-4A0F-ABD6-0DB12ED4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3CAB7-045E-458A-9C0D-7D863760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37D-8F04-4255-9AAA-C3848BA2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2EFD3-4AF0-46C1-B592-ED8DC3FE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2B5B3-CDB9-4059-9FD5-F5362658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4CACD-6779-498D-AB3D-A885F85B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F8796-0BE5-4B7B-B7BE-30BD9ED8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A185D-816D-416F-8724-E946C7DE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1F8-001E-45AB-9971-2CD0115A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42C-20BF-410A-8DAD-10906DED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996-F9CF-4566-981E-0F78192A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D88-B4A1-4E38-8F77-C9521E3A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A5A-04A3-4BB3-9531-2CEACBCD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0EE5-5B21-42A8-A3CF-6856F987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23E-A455-4895-B286-AB29F796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3C2F-8E3B-4A2B-A616-C9CE62DDFB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1E08-5F49-451A-A2B8-AC5926CC4D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commons.wikimedia.org/wiki/File:Miguel_de_Cervantes_lithography.jpg" TargetMode="External"/><Relationship Id="rId3" Type="http://schemas.openxmlformats.org/officeDocument/2006/relationships/hyperlink" Target="http://commons.wikimedia.org/wiki/File:Miguel_de_Cervantes_lithography.jpg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on Quijote de la mancha:</a:t>
            </a:r>
            <a:br>
              <a:rPr sz="1800"/>
            </a:br>
            <a:r>
              <a:rPr b="0" lang="en-US" sz="1800" spc="-1" strike="noStrike">
                <a:solidFill>
                  <a:srgbClr val="e3e3ff"/>
                </a:solidFill>
                <a:latin typeface="Arial"/>
              </a:rPr>
              <a:t>Información de la historia, la importancia, y los temas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350040" cy="4762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43800" y="464832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traveladventures.org/.../madridplazas06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Después de 5 años en captividad, regresó a España en 1580.  Se casó con Catalina de Salazar en 1584 y tenían una hija.  Se publicó su primera novela, La Galatea.  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a representación de La Galea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876920" cy="2786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28800" y="53341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quijote.tv/vidaV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Cervantes trabajaba como recaudador y en otros trabajos también para ganar dinero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D77A-A1C3-45AB-86B4-D1F15BCD1918}" type="slidenum">
              <a:rPr b="0" lang="en-US" sz="3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4857840" cy="5705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4267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commons.wikimedia.org/wiki/File:Miguel_de_Cer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..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Cervantes fue encarcelado en Sevilla a causa de unos problemas con el dinero en su trabajo como recaudador.  Se dice que empezó a escribir El Quijote en la cárcel.  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a de Sevil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4495680" cy="3657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14800" y="6248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usm.maine.edu/~maps/exhibit5/SPE25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ervantes escribió la primera parte de Don Quijote en 1605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3191040" cy="4886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562720" y="39625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3809880"/>
            <a:ext cx="3352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irbacon.org/graphics/titlepagedq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Don Quijote/Quixote era un hidalgo viejo quien se volvió loco por leer tantos libros de caballerías y quería luchar contra y salvar el mundo de lo malo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3962520" cy="5705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7160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ritannica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on Quixote se puso muy popular y famoso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90720" y="4572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tfiles.art.com/images/-/William-Nicholson-P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vantes escribió la segunda parte de Don Quijote en 1615 después de y para responder a una segunda parte escrito por otro au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4919760" cy="7142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676520" y="45720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bne.es/productos/BDH/sec1a/img/007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s temas de Don Quixote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realidad y la fi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libertad religi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libertad intelec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amor y la libertad de escoger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humanismo/el deseo de cambiar el mu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sociedad y su estructura con la noble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literatura y la cens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Don Quixote vivió en la región de La Mancha donde habia muchos molinos de viento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2193480"/>
            <a:ext cx="81532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43200" y="245736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37339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9625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photography.nationalgeographic.com/staticfile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Unas escenas famosas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lleva la armadura de su bisabuelo para ir de aven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tiene un caballo, Rocinante, que es un rocí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le promete una isla a Sancho, su escude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es un huésped en la venta que es un castillo en su 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lucha contra los arrieros por tocar sus arm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reza en el corral porque la capilla esta “en ruina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se arma caballero andante por el vente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dice que los caballeros andantes nunca se quej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come truchuelas y pan ver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lucha por Dios y el amor de Dulcin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lucha contra los molinos de vi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cura quema los libros de DQ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piensa que encuentra “el yelmo de mambrino” con el bárbe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ladrón roba el asno de Sanch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hace una penitencia en la Sierra More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Q muere en ca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España durante los siglos 15 y 16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“El siglo de oro” en Españ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abela y Ferdinando se casa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 1469, unificando la Españ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nuevo mundo se descubrió por Cristobol Colón empezando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9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la gran época de impe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ñol con sus colonias americanas (México, Centroamérica, Sudaméric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o, empieza a ser difícil a controlar tantas tierras y gobernarl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50496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76920" y="5029200"/>
            <a:ext cx="388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escubreamerica.files.wordpress.com/2007/07/ columbus_taking_possession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Muchos monumentos y estatuas se han hecho de Don Quijote, Sancho Panza su escudero, y Cervantes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6172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pcontent.answers.com/wikipedia/commons/thumb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6095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gregoryreade.com/.../donq_b_600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191120" y="21337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uchos artistas famosos han pintado pinturas de ellos, también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9000" cy="4390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898800" y="1371600"/>
            <a:ext cx="5245200" cy="63500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495680" y="5715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www.imagekind.com/.../Picasso_Don_Quixote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on Quijote es una obra conocida por unos expertos como la primera novela moderna y por unos, la mejor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335268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3097080" cy="4262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666880" y="4952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donquijote.org/.../photos/donquixote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.   Cervantes, Miguel,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on Quixot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, (translated by Edith Grossman), 2003, Harper Collins Publisher, New Y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.   www. en.wikipedia.org/wiki/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on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uixot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nline-literature.com/cervantes/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on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uixot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4.   www.sparknotes.com/lit/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onquixot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5.   www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onquijot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org/vmuseum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6. school.discoveryeducation.com/lessonplans/programs/greatbooks-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onquixot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yberspain.com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/year/index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 reyes católicos conquistaron la tierra árabe de los mo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mitad del mundo conocido era de España a este pu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6840" y="1347840"/>
            <a:ext cx="3762360" cy="2867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4343400"/>
            <a:ext cx="541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lincolncs.org/5-6?Studies/images/armada/spain1210a.g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España, se empieza el sistema oficial de “defender” la religión católic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Inquisición, con sus caractarís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intolerancia y limpieza de sang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609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2476800" cy="3784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105520" y="54100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humgersbrides.com/images/inq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a vida de Cervant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9072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1905120" cy="2152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76720" y="53341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taiwandna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Cervantes nació en 1547 en Alcalá de Henares, España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90920" y="2386080"/>
            <a:ext cx="5257800" cy="2765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3880" y="556272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114800" y="3189240"/>
            <a:ext cx="914400" cy="480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9528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recinto_muralla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uel de Cervantes era uno de siete herm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vió en Madrid por muchos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 padre fue ciruj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jó por España con su padre en su traba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ervantes se insribió en la militaria en el ejército español y luchó en la famosa batalla de Lepanto en 1571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3809880"/>
            <a:ext cx="106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a-2.web.britannica.com/eb-media/76/115476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238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Cervantes salió para España, pero en camino/en ruta se puso prisionero/esclavo por 5 años en Algiers, África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001000" cy="5105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2120" y="62485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heritage-history.com /books/fraser/seafights/zpage126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5:25:55Z</dcterms:created>
  <dc:creator>jensenk</dc:creator>
  <dc:description/>
  <dc:language>en-US</dc:language>
  <cp:lastModifiedBy>Jensen</cp:lastModifiedBy>
  <dcterms:modified xsi:type="dcterms:W3CDTF">2009-03-14T23:04:07Z</dcterms:modified>
  <cp:revision>131</cp:revision>
  <dc:subject/>
  <dc:title>Don Quijote de la mancha</dc:title>
</cp:coreProperties>
</file>